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D44-7DF3-4774-9A4A-7388BCDE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7F5-7489-4698-A4A1-D130A20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944E-9E7A-4BE8-8D7C-7C344FA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ABF20-CFB4-4857-9580-FF9398E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D61E-417B-4912-8559-B09C06F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71C44-3E0E-4B5D-8D9F-B1BF7C9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DE86E-DF6E-4AC8-942B-0D93553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35F31-9235-4FF2-B189-7FD0856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3E344-27B4-4FF4-9AA6-3FF2CF81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E92C-F424-42C8-AF14-679AD2C4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35CD4-D4C4-4478-A5E5-94144560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3FDD-8536-4D24-B580-64441A6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BD5-5427-447F-9086-BEABF596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06146-6124-49D0-B975-D5753E11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27DC-F060-4897-BC00-158D410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F8339-C08E-46F5-B53C-4B470F59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22CE-31F4-4415-9405-81E7E45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6796D-CA1E-4FDD-AA12-5A7F310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1FFA2-2ECB-4879-93F4-4F60BFF5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F0B1-D8B6-4D36-95CE-577FA01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B3D0C-8136-4A56-AE41-416D9DA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6722B-7104-4959-AD48-62B82F3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E242D-E354-4F9F-BEF9-9EC2238F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E8E-FA9D-4E46-B0FC-76894610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A737D-8FE3-4E44-940F-D4A2C81A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9A32-94FC-4B44-9FD2-D45EC94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C31B-C482-46E4-8CE9-9AE7E8C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FFD2-5F61-4ED0-AF2A-274665D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F5C79-0604-4210-B0E9-4598ACCE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DABD-04BB-45DD-8B7E-1B0094F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980C-C979-4E61-A593-5937C6C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55C52-2E43-48B1-821D-1330D40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6BE32-347B-415F-8BEC-C27788F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1C860-7D54-4D4A-9624-F05C060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BD57-C98B-423C-9C69-5DA54F19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9AC72-5C17-4882-924A-A38D9B68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3CDB-1B86-427E-8664-939917E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409DE-9837-4EE8-A2B8-BF118710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DC081-E5BE-4D81-AA3E-9CF466A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4A834-312A-4729-963C-70F690C6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D1DF9-208F-445C-A1EC-453C15D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CC4FA-ADDE-43E5-BAD7-47F95BA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86CF-17C0-494E-89FC-2887B49E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7EFA7-E06E-4183-B386-16D8C03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A94B9-779F-4D77-8CE1-47FDC94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58D-389E-4A22-B2BF-93743679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3A928-9A2C-4FED-90E9-2755BC25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E532-81AE-477C-B8E9-AB9F008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56A4B-78F1-45BC-B6E5-2A0030B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FF0FC-F4DB-4674-ACAC-BDE23C17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48A21-6B34-4548-A8BA-24A8F3A5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78F61-B210-4C53-A0F0-DDEF8F49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85185-9107-4339-A263-65A4371B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30A65-D1BB-4EDE-95C7-8D9B272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3D58B-185F-4CD5-A75F-0948293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7E33E-29F9-4920-AA20-5910BAD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A9C-8E23-404D-8DBE-FF245C9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4EC22-407D-4CA5-B349-D04209D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D74DE-E8BA-4503-BC5D-E91CAAA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5777B-E916-44D5-A7E4-F221819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B2F2A-7BCF-4F08-A768-DC8DFF4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39B46-8CFC-4527-9A55-51E12C0F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EEFF7-B3FD-45D5-B888-8D51BAE9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D2F11-8D5A-46E3-9915-C86AD467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BF41B-EC28-4018-AF97-62B6A0EF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61201-D629-4995-944A-B2196B6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A21BF-2C3B-481D-BF66-7E332AC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1968-BEC5-4679-9DFC-9100B6F0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E831F-8030-47C5-B1A8-5E0DD55A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BA292-5D23-4D42-A12C-0CF4F84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91E80-6504-4162-A4EC-7CEE794C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C30E7-6903-4AB0-BFD5-3BDFD36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658ED-69F8-4AF7-89B3-62CD083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544DD-E454-4FBA-BDCE-479CD9E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E9EF6-7971-44F2-9323-5B870BC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3F4EF-867C-470D-B1AE-1682DDA4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921A5-6039-4664-8BF2-D42EE637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68FE4-B279-4DC4-B264-CC411969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999-1723-4540-821F-BC13954C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4CF22-EE5A-4DF9-BFAD-ED54D2F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DAD47-FF0C-408F-929D-8145BE4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20933-E2BF-4E17-8CE9-EC85C816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FC79F-B07A-4F9D-B957-4E2181AB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F5A6B-62CE-4BCC-8C8A-753BC51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3F1C2-813E-43D7-96A8-326C766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D2410-777B-45C9-A0A4-6D218D5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CE022-E8AF-4A37-9E67-C5CCA6A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A4EE8-1FE5-426F-9354-E236BE3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436B1-58D6-40C4-93F6-56B0641A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611-EBD9-4B85-9A40-EFA1C3C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1222D-D7BB-4D47-B028-3014DE96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A23CC-059B-42DB-B583-EAA0071C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43B60-142D-4FDC-B156-07B0328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E9442-C9A6-4E51-897B-D10FF79C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228CF-D6D5-4695-905B-A20FBBA8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8E563-71C6-48BB-B169-E44ED84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1FDA1-B81D-4E57-9CA3-C4D23A2A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DB74D-3DE3-479A-95E5-E1B4D4B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C15C4-8355-4186-B897-47D0BA9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6ADE0-B0A1-4B1E-9720-18EE654C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1860-25D2-405F-BD02-0C974FF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A9946-D505-412D-A3C3-2ADBE82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FEFE8-3A49-4905-8A33-3DCE9E2D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3B79B-5F63-4C17-92C1-54D00942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89D80-164F-463F-B84D-7EE7AB1B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8655B-520D-472A-A1BC-16489C1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1C2D5-35CD-42EE-9A7C-5F333F0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3E929-AFA8-4A02-9122-64EE0BF8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55507-1C5B-4B70-8B31-4EDEFCD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B1CFC-8FF8-4B49-AFB8-D32ED126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6A6FC-F2C2-445A-865A-C0534B7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5E9-AC2D-4F49-92A6-C840BB3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0544-2242-4607-917F-D861DEA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61CDA7-D287-46D4-BBA1-8F38707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4D3BC-BC7D-48DD-9E45-264E85A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F7DB4-6D20-44D5-921A-0B798CA3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AB272-4973-4CAF-802F-CB289AC2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103C5-94EA-4F89-A697-EE609E2D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3774C-AB4B-446E-ACD7-0C3A872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492DA-EB28-4850-ACEA-69FCCBC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3DFDF-BAD4-42C9-A9C7-B14C33E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C7711-1094-42DA-B4B9-0901C646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69CB8-E459-4C42-9B06-FC83E11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FF3-A99E-4DA0-B2EA-077B665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E9C1A-0944-4D7A-92F6-CA7CD84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F2CDA-4965-424B-846C-2B1F00F8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62711-B9E4-48BB-966C-35B6C0A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FE0CF-8D28-4CEE-B3F4-576FAD5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7B1F4-8D11-4828-AFBD-7F4C16C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E25E1-3E5F-4328-8B4B-3D5259CC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C2E20-8994-40F8-822B-8A304C58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696ED-1DF7-4A9A-8CF4-B78D0C64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C7298-4360-4B96-9E9E-1CCC36B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91AF2-D985-4128-8D0A-0EC6F8A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70FF-9FE7-4712-A8CD-C650C86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BA873-7B0A-4680-8633-5FABACC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63E9A-10AC-4A7F-AED3-D731FD9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10882-6F6C-4600-A6FC-F14D2DF3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B2551-EC0D-4869-9B53-D04865D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40667-07AC-473E-B086-E88B0D9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FEBEA-BB9C-415F-B642-782EC02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ED45E-AB92-488F-97F6-42D48E8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5D82C-BC80-4A0C-A722-ECE6982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55FA6A-ED2F-4A46-8184-9E7C6D2D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B6374-B5FF-45C0-9580-172F4040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C48-F389-4795-87CE-27EE199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7C5E4-39E4-46DC-B183-0BBE2F4C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C3DAC-4227-46B4-B8F6-634E545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E81E9-CB1D-4D37-8B21-C1CD60A0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8A6E2-E68F-49BF-94FA-2C21F28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E57B7-9EC4-4979-AC29-B980270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E899E-EFD3-4E70-AD23-709345C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A2B64-FE9F-49DB-9824-42B8554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78E00-164F-4F18-99F5-20DB8F1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9F041-32DC-4F9C-9EBF-95FE00F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5D040-572E-43EB-B795-310FC33F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EE1-81EF-482F-96E6-56089376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C66AD-EE28-4839-AD80-BBA5AF7D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914B-5709-4A10-9244-F18246BA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ED81-F5EA-4CDB-95F3-FC4C0A26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FDBE-6DA8-4BD9-ADE8-F3C974B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E425-8877-4AAD-9213-6F54B2F2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2791-1711-452A-94C1-E99D38B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535-A711-42C6-8C73-C70E18F8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A308-978A-4CBA-8531-32501AC2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C633-78ED-4D2F-82EE-3973067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3C1C-AE59-4912-9F29-C4374C3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27D8-E2DA-480E-8349-9978A8CA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6F0E-7DFF-4E86-9C37-D365BF5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9DB3-D886-4E53-ADF4-565F28B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CB94-C4AA-403D-9AC5-00AF6812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89C07-1212-4155-BF50-2D88F474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A2D3C-707E-46D6-86E1-410FFBD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D78DF-C758-4A65-A79E-39A9F568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142-5FEE-4428-B78E-E8FE8CA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49EAD-D33A-489B-92B8-25949538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499D6-87C1-4FBC-9959-046C247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71ED1-D0A8-4330-B9E5-66BA0AA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195FB-411F-430D-BAF7-D055335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CE35A-22D5-404C-B556-C9312F1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56A6B-D662-487B-B6BC-768692E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FFB29-4E3A-497E-889D-5E4E5BB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213DA-54C1-4329-A2D0-46EE1F2F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D3F2F-0F5A-4B45-9923-A679C738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40CB-8C82-4647-817D-535DF134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4C5-852A-426C-B05D-6396509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F5E4-02FA-4F16-84F1-5C78681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FC22-1238-461B-A020-7D40424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2FD6-51A3-4A6C-BE17-C4FAC2C7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9205-4E14-49D4-87E2-389D4F4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2EB1-EECA-4A62-AD22-4287743A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2971-E922-4B79-B869-48A897E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AB06-B5B8-4F7F-B690-6E86075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E568-48F3-4FF4-ADD7-70AAD110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10E9-A225-47F9-9742-AA4886E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7E66-44C8-43B7-908A-2CD10BC2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F96-609B-4B30-943C-262C550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5E38-9802-4CBE-8F03-ECD16D4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29BB8-D3F7-4613-A2E2-255CF20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5E08-2898-4C22-9F85-18DBB4E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A12FF-B441-42B7-951D-BBCA355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811A7-75F8-42C0-823B-CEB2A48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A4BA6-7DEF-429D-BB39-6A44347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BFFD-4BD2-49DA-A4A7-777AF0F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71FB-3780-4380-8331-FC58361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606DB-A7D5-4B5B-8303-304829C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944EA-9590-4F93-847D-D4813B0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71D-1A9B-4485-9EE3-B166AB5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E80A-6BFB-4D04-833C-ADFBF0D3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1686-7D53-45EC-8BEE-2F942688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14FB-676C-411F-96DD-0BF6075A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2831-A48B-4CA2-BBF3-B53EC23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2C85-17BD-4A73-823F-D868EBFD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8872-242F-4328-9131-13436AE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B042-F72C-4413-BE53-934C614C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C1CF4-F0C7-411C-B9B5-9FCD6714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193A9-5F8E-4F25-A47A-D458249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B19A-2E01-4F92-8E4F-D138E9A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BFC-73A4-4476-833E-C3FE5D3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EEC9-92E6-4324-9699-5ABEF8E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33D4-5674-4899-A108-6EBC4F1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BF00-3025-487E-A430-EA4B571F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BFB9-DA37-40AB-BE9B-05486BF7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B3A3-8E21-41A2-939D-5C0B5028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2C7A-5DB0-457B-A729-7389A15F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DA54F-C37F-402C-A2E1-22253D52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9EFE9-D932-4454-A3E4-6469B513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65CD-D237-4AFF-8721-C33A47C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7D042-54AF-4061-97C9-75CABDA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427-6B88-4835-8E98-9C5F489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81F0-66F2-4B70-AA82-DD01ACE8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6B4C9-4BAC-44E6-AF1E-A05477B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C3C27-42FE-4999-9A91-DFF651B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CBD85-653F-46B0-AB80-4746BDE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5B229-42C8-4089-8755-DC419B2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57DE7-14A3-4E86-9032-323EF61A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19F0-91AB-48DD-8DCD-16A5324C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FD829-5F60-4F63-9BFA-F86374BC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01E44-FB6B-4ACC-82DE-44D0662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F4A5F-F936-4336-B30F-39CF45BB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DBB-BE07-4371-A46E-61DFFB808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137C-E45B-4AFC-999B-CAF51A558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34AC-DD63-4D1F-966F-B7577FAAD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8B9-8260-42B0-8DC9-D128ADD83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E7C-CA7C-46F6-BF14-4B5BC84CD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F76-9EDE-4F7F-8023-8F503CE45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C2C0-49CF-43A7-B2A2-7140CA522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EA3D-B361-4796-837C-F79171D0E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FB61-474A-4447-BFD5-22C5FED95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9FD4-6A1F-4494-927E-3C8D15A90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F18-316E-48F8-B051-491774FD5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259-120F-4827-9CD2-B7C486FD2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1C7B-324E-4828-BF59-3A08E4660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87E1-BCE3-4EB9-8DC8-C6DEF1EB06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A222-999E-4F1A-9AD9-2481FF2FD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466-A450-4B19-9A1B-4B04E8EF9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053E-1E11-4A3D-B186-B27599000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E430-0D61-4E11-AC92-6CA2A2AA7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BF94-646D-47E9-95E9-4D27D002B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F11-8C9E-494E-98EA-431D0D0BD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5671-BA25-4F53-9870-FF300B6EB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0FF-3512-4F4E-923D-EC805F9D3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1250-6F2F-41A5-A26C-5273A8402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B8F3-88B5-4078-A0B4-E7B1B01CA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006A-5CB6-469D-9D92-AD1C0B01B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C52-1151-474C-BEF0-32321EB52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1A0-9D6F-475E-99A0-7E2A8F09D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90F-60EF-4E4E-9984-130AD45E2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D7D7-CC67-470E-AB9D-840CE9E34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277-B61A-46C9-BD95-43D0B59E8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349-E362-4075-A491-47979C6AF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E8C-4EC7-498A-ADE6-9F11C9755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240-BC3D-423E-8FF6-83BF0403FC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0AB-74A3-4863-B3F4-76D87F96D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8750-6AC6-4F22-9142-9CFD552D7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853-8A0C-40A5-8EA3-82F3949A7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B098-ADD7-42BD-8517-AF47B7B31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EABA-D61F-4ECC-8544-2C37DC520D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5623"/>
          <p:cNvPicPr/>
          <p:nvPr/>
        </p:nvPicPr>
        <p:blipFill>
          <a:blip r:embed="rId1"/>
          <a:stretch/>
        </p:blipFill>
        <p:spPr>
          <a:xfrm>
            <a:off x="163440" y="1413000"/>
            <a:ext cx="86281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9633" descr=""/>
          <p:cNvPicPr/>
          <p:nvPr/>
        </p:nvPicPr>
        <p:blipFill>
          <a:blip r:embed="rId1"/>
          <a:stretch/>
        </p:blipFill>
        <p:spPr>
          <a:xfrm>
            <a:off x="409680" y="157320"/>
            <a:ext cx="8324640" cy="6543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77744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777744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777708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55640" y="3645000"/>
            <a:ext cx="777708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826920" y="5772240"/>
            <a:ext cx="777744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755640" y="6237360"/>
            <a:ext cx="777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68609" descr=""/>
          <p:cNvPicPr/>
          <p:nvPr/>
        </p:nvPicPr>
        <p:blipFill>
          <a:blip r:embed="rId1"/>
          <a:stretch/>
        </p:blipFill>
        <p:spPr>
          <a:xfrm>
            <a:off x="352440" y="1595520"/>
            <a:ext cx="8439120" cy="3666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539640" y="2952720"/>
            <a:ext cx="662472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539640" y="336708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468360" y="385128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395280" y="4230720"/>
            <a:ext cx="828036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324000" y="4662360"/>
            <a:ext cx="8280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166680" y="743040"/>
            <a:ext cx="8810640" cy="5371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218280" y="116352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2771640" y="1998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084720" y="2421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877080" y="2852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1476360" y="364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5219640" y="4076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6673680" y="448452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7308720" y="4878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3295800" y="5743440"/>
            <a:ext cx="502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9410" descr=""/>
          <p:cNvPicPr/>
          <p:nvPr/>
        </p:nvPicPr>
        <p:blipFill>
          <a:blip r:embed="rId1"/>
          <a:stretch/>
        </p:blipFill>
        <p:spPr>
          <a:xfrm>
            <a:off x="185760" y="1004760"/>
            <a:ext cx="8772480" cy="4848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3257640" y="1413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1116000" y="1782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5508720" y="1782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8244000" y="263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6"/>
          <a:stretch/>
        </p:blipFill>
        <p:spPr>
          <a:xfrm>
            <a:off x="8244000" y="3068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7"/>
          <a:stretch/>
        </p:blipFill>
        <p:spPr>
          <a:xfrm>
            <a:off x="8244000" y="34383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8"/>
          <a:stretch/>
        </p:blipFill>
        <p:spPr>
          <a:xfrm>
            <a:off x="8244000" y="3914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9"/>
          <a:stretch/>
        </p:blipFill>
        <p:spPr>
          <a:xfrm>
            <a:off x="8244000" y="4302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0"/>
          <a:stretch/>
        </p:blipFill>
        <p:spPr>
          <a:xfrm>
            <a:off x="7524720" y="515772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58373" descr=""/>
          <p:cNvPicPr/>
          <p:nvPr/>
        </p:nvPicPr>
        <p:blipFill>
          <a:blip r:embed="rId1"/>
          <a:stretch/>
        </p:blipFill>
        <p:spPr>
          <a:xfrm>
            <a:off x="347760" y="1104840"/>
            <a:ext cx="8448480" cy="4648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2"/>
          <a:stretch/>
        </p:blipFill>
        <p:spPr>
          <a:xfrm>
            <a:off x="1042920" y="15289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3203640" y="365436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4859280" y="494172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57352" descr=""/>
          <p:cNvPicPr/>
          <p:nvPr/>
        </p:nvPicPr>
        <p:blipFill>
          <a:blip r:embed="rId1"/>
          <a:stretch/>
        </p:blipFill>
        <p:spPr>
          <a:xfrm>
            <a:off x="685800" y="1114560"/>
            <a:ext cx="7772400" cy="46288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2230560" y="208908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5238720" y="2114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7792920" y="2070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5"/>
          <a:stretch/>
        </p:blipFill>
        <p:spPr>
          <a:xfrm>
            <a:off x="2185920" y="2698920"/>
            <a:ext cx="503280" cy="5140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6"/>
          <a:stretch/>
        </p:blipFill>
        <p:spPr>
          <a:xfrm>
            <a:off x="5229360" y="2655720"/>
            <a:ext cx="503280" cy="514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7"/>
          <a:stretch/>
        </p:blipFill>
        <p:spPr>
          <a:xfrm>
            <a:off x="7667640" y="2684520"/>
            <a:ext cx="503280" cy="5144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8"/>
          <a:stretch/>
        </p:blipFill>
        <p:spPr>
          <a:xfrm>
            <a:off x="1258920" y="4375080"/>
            <a:ext cx="1152360" cy="5144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9"/>
          <a:stretch/>
        </p:blipFill>
        <p:spPr>
          <a:xfrm>
            <a:off x="1116000" y="5084640"/>
            <a:ext cx="1152360" cy="5144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0"/>
          <a:stretch/>
        </p:blipFill>
        <p:spPr>
          <a:xfrm>
            <a:off x="3780000" y="4446720"/>
            <a:ext cx="1800000" cy="5140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51444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2"/>
          <a:stretch/>
        </p:blipFill>
        <p:spPr>
          <a:xfrm>
            <a:off x="6659640" y="4437000"/>
            <a:ext cx="1800000" cy="5144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3"/>
          <a:stretch/>
        </p:blipFill>
        <p:spPr>
          <a:xfrm>
            <a:off x="6659640" y="5084640"/>
            <a:ext cx="1800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图片 56324" descr=""/>
          <p:cNvPicPr/>
          <p:nvPr/>
        </p:nvPicPr>
        <p:blipFill>
          <a:blip r:embed="rId1"/>
          <a:stretch/>
        </p:blipFill>
        <p:spPr>
          <a:xfrm>
            <a:off x="900000" y="1924200"/>
            <a:ext cx="7344000" cy="3009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1872000" cy="5763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871640" cy="5763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4"/>
          <a:stretch/>
        </p:blipFill>
        <p:spPr>
          <a:xfrm>
            <a:off x="1258920" y="4437000"/>
            <a:ext cx="1871640" cy="5763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5"/>
          <a:stretch/>
        </p:blipFill>
        <p:spPr>
          <a:xfrm>
            <a:off x="3851280" y="3213000"/>
            <a:ext cx="1871640" cy="5763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6"/>
          <a:stretch/>
        </p:blipFill>
        <p:spPr>
          <a:xfrm>
            <a:off x="3995640" y="3860640"/>
            <a:ext cx="1871640" cy="5763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7"/>
          <a:stretch/>
        </p:blipFill>
        <p:spPr>
          <a:xfrm>
            <a:off x="6300720" y="2997360"/>
            <a:ext cx="1871640" cy="57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8"/>
          <a:stretch/>
        </p:blipFill>
        <p:spPr>
          <a:xfrm>
            <a:off x="6588000" y="3789360"/>
            <a:ext cx="1871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55300" descr=""/>
          <p:cNvPicPr/>
          <p:nvPr/>
        </p:nvPicPr>
        <p:blipFill>
          <a:blip r:embed="rId1"/>
          <a:stretch/>
        </p:blipFill>
        <p:spPr>
          <a:xfrm>
            <a:off x="219240" y="1305000"/>
            <a:ext cx="8705520" cy="42480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3"/>
          <a:stretch/>
        </p:blipFill>
        <p:spPr>
          <a:xfrm>
            <a:off x="4427640" y="3213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4"/>
          <a:stretch/>
        </p:blipFill>
        <p:spPr>
          <a:xfrm>
            <a:off x="5580000" y="36734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5"/>
          <a:stretch/>
        </p:blipFill>
        <p:spPr>
          <a:xfrm>
            <a:off x="6732720" y="3222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6"/>
          <a:stretch/>
        </p:blipFill>
        <p:spPr>
          <a:xfrm>
            <a:off x="7812000" y="36640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7"/>
          <a:stretch/>
        </p:blipFill>
        <p:spPr>
          <a:xfrm>
            <a:off x="5364000" y="4230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8"/>
          <a:stretch/>
        </p:blipFill>
        <p:spPr>
          <a:xfrm>
            <a:off x="2124000" y="5138640"/>
            <a:ext cx="36036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9"/>
          <a:stretch/>
        </p:blipFill>
        <p:spPr>
          <a:xfrm>
            <a:off x="3276720" y="5113440"/>
            <a:ext cx="360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54276" descr=""/>
          <p:cNvPicPr/>
          <p:nvPr/>
        </p:nvPicPr>
        <p:blipFill>
          <a:blip r:embed="rId1"/>
          <a:stretch/>
        </p:blipFill>
        <p:spPr>
          <a:xfrm>
            <a:off x="318960" y="938160"/>
            <a:ext cx="8506080" cy="49816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826920" y="179244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684360" y="221472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611280" y="269892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611280" y="444672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852480" y="4878360"/>
            <a:ext cx="799308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755640" y="5364000"/>
            <a:ext cx="7993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52231" descr=""/>
          <p:cNvPicPr/>
          <p:nvPr/>
        </p:nvPicPr>
        <p:blipFill>
          <a:blip r:embed="rId1"/>
          <a:stretch/>
        </p:blipFill>
        <p:spPr>
          <a:xfrm>
            <a:off x="380880" y="2529000"/>
            <a:ext cx="8382240" cy="1800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7920000" cy="319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792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57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